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1F9-D52F-4C52-A012-6A99FB31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B0C-2A29-4441-8473-1105CFA2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DCE-0BDF-4298-95CB-4585D379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03C-AC89-49A7-9B69-FDFD32ED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FC8-8971-4AA4-9589-B4D1E4CD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50D-9088-4DF6-B586-703176BF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F76-D1CA-4DEB-ABEF-DAADAFD9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FED-5B64-4894-AD58-F7C9ADE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8B1-62B9-44E2-9956-EC0F66A1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97A-6117-4436-910F-8B5041ED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8D6-38A8-4B73-9744-3E77DB8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880-A230-4C19-B1DD-D558398C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8CA5-9CF2-49C0-84A7-5A073885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modelo matricial: reactivos y esca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5" descr=""/>
          <p:cNvPicPr/>
          <p:nvPr/>
        </p:nvPicPr>
        <p:blipFill>
          <a:blip r:embed="rId1"/>
          <a:srcRect l="0" t="1838" r="0" b="8757"/>
          <a:stretch/>
        </p:blipFill>
        <p:spPr>
          <a:xfrm>
            <a:off x="500040" y="1500120"/>
            <a:ext cx="80726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es intern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3 Marcador de contenido" descr=""/>
          <p:cNvPicPr/>
          <p:nvPr/>
        </p:nvPicPr>
        <p:blipFill>
          <a:blip r:embed="rId1"/>
          <a:stretch/>
        </p:blipFill>
        <p:spPr>
          <a:xfrm>
            <a:off x="414360" y="1163520"/>
            <a:ext cx="8345520" cy="471348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1676160" y="6072120"/>
            <a:ext cx="57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he Joint Committee on Standars for Evaluation (19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propuesta: compo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iterios 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r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tfol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490920" y="2924280"/>
            <a:ext cx="216072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60640" y="32446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00000" y="1397160"/>
          <a:ext cx="7620120" cy="406368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Matriz General para cada una de las competenci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Matriz Específica para la evaluación de tareas (rúbricas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portfolio de competencias básicas para cada estudian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a Matriz General por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1680" y="1143000"/>
          <a:ext cx="7786440" cy="4425840"/>
        </p:xfrm>
        <a:graphic>
          <a:graphicData uri="http://schemas.openxmlformats.org/drawingml/2006/table">
            <a:tbl>
              <a:tblPr/>
              <a:tblGrid>
                <a:gridCol w="2143080"/>
                <a:gridCol w="564336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etencia Comunicación Linguí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82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iterios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8237"/>
                    </a:solidFill>
                  </a:tcPr>
                </a:tc>
              </a:tr>
              <a:tr h="365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ºCic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41200" indent="-2412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Participar en las situaciones de comunicación del aula, respetando las normas del intercambio: guardar el turno de palabra, escuchar, mirar al interlocutor, mantener el tema. (LCy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1200" indent="-2412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Expresarse de forma oral con un vocabulario adecuado, no discriminatorio, reconociendo algunas peculiaridades relevantes del español de Canarias. (LCy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1200" indent="-2412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 Captar el sentido global de textos orales de uso habitual, reconociendo las informaciones más relevantes. (LCyL) ……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183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úbricas y esca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3 Marcador de contenido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485200" cy="188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uadrorubricbig"/>
          <p:cNvPicPr/>
          <p:nvPr/>
        </p:nvPicPr>
        <p:blipFill>
          <a:blip r:embed="rId2"/>
          <a:stretch/>
        </p:blipFill>
        <p:spPr>
          <a:xfrm>
            <a:off x="1143000" y="3143160"/>
            <a:ext cx="6429240" cy="2714760"/>
          </a:xfrm>
          <a:prstGeom prst="rect">
            <a:avLst/>
          </a:prstGeom>
          <a:ln w="0">
            <a:noFill/>
          </a:ln>
        </p:spPr>
      </p:pic>
      <p:sp>
        <p:nvSpPr>
          <p:cNvPr id="57" name="5 CuadroTexto"/>
          <p:cNvSpPr/>
          <p:nvPr/>
        </p:nvSpPr>
        <p:spPr>
          <a:xfrm>
            <a:off x="2510280" y="60008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duteka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Matriz Específica por tarea (rúbr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71680" y="1428840"/>
          <a:ext cx="7858080" cy="4529160"/>
        </p:xfrm>
        <a:graphic>
          <a:graphicData uri="http://schemas.openxmlformats.org/drawingml/2006/table">
            <a:tbl>
              <a:tblPr/>
              <a:tblGrid>
                <a:gridCol w="4348080"/>
                <a:gridCol w="1158840"/>
                <a:gridCol w="1035000"/>
                <a:gridCol w="1316160"/>
              </a:tblGrid>
              <a:tr h="157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pectos a evaluar (tomados de los criterios de evaluación expuestos en la Matriz General de Primaria. Criterio de evaluación incluido en todos los niveles de 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ner en soporte papel y digital, usando el registro adecua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ganizando las ideas con clarida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  <a:tr h="65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lazando los enunciados en secuencias lineales cohesionada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  <a:tr h="65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etando las normas gramaticales y ortográ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  <a:tr h="65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orando la importancia de planificar y revisar el tex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0:10:57Z</dcterms:created>
  <dc:creator>pilar</dc:creator>
  <dc:description/>
  <dc:language>en-US</dc:language>
  <cp:lastModifiedBy>hp</cp:lastModifiedBy>
  <dcterms:modified xsi:type="dcterms:W3CDTF">2010-03-07T12:30:18Z</dcterms:modified>
  <cp:revision>2</cp:revision>
  <dc:subject/>
  <dc:title>Un modelo matricial: reactivos y escalas</dc:title>
</cp:coreProperties>
</file>